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15D9-F47C-4344-9309-F64AF3A2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BD56-44F5-4D66-8610-448D5AAE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E0C2-FA43-4ED2-82F8-97A4A72D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4EDD-D5F6-4BA2-A635-E6F3532A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1914-3327-4489-A1D1-D770789A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D85B-FA36-4F12-B2C6-77CA287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4BF8-E4EA-470A-8A34-D460C526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854F-5015-439D-8706-B6B5B06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E8DA-4819-4EF7-8737-CF544E56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E2EC-3A41-48EB-A697-80D071D4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1B94-2647-4492-BEB0-7F3A236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5E30-A4C0-426F-8B7A-C9C48D93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E4D1-A872-47A7-A364-9AC9E9FF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9425-E5AC-4B8C-83AF-56E5375A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5084-730A-4265-9D43-2289246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1E6D-A82B-4E10-AF64-D5AE8C30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8BAD-71FD-49CF-A6BB-9B04C457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9ED0-7684-4617-976A-82F5A87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FD44-CFC8-486E-9844-73552E00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BA0E-9A2B-4A75-A0CE-9F4B9580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D975-C3E2-4962-BCCD-E6D9BDB1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EB81-2C55-41C4-B54D-C33A370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181E-A79B-4B0C-8DB1-79C547DB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5276-BDD5-4273-B531-39C980A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EDAB-1E43-4B9E-8D11-FAC446924233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DDA4-C0C0-4AC1-B934-A44463B1121C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4E50-D0F0-4BC7-83EB-20258AE85A87}" type="datetime">
              <a:rPr b="0" lang="en-US" sz="1200" spc="-1" strike="noStrike">
                <a:solidFill>
                  <a:srgbClr val="0033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C4D-10D9-4C9E-8B57-99854812F090}" type="slidenum">
              <a:rPr b="0" lang="de-CH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Übersicht Voranschla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Aufwand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222‘9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3‘418‘2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359100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Mehrertrag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Fr.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de-CH" sz="3200" spc="-1" strike="noStrike">
                <a:solidFill>
                  <a:srgbClr val="003300"/>
                </a:solidFill>
                <a:latin typeface="Arial"/>
              </a:rPr>
              <a:t>195‘300.—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65CE-31CE-4298-AB5E-935EF35451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verwendung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1700280"/>
          <a:ext cx="72741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7274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DDD3-D9C2-4CA0-9448-BE33639DFD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Mittelherkunft 2007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1701720"/>
          <a:ext cx="712980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1720"/>
                    <a:ext cx="712980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EA8C-D5FB-4377-9F32-481E9B4F0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3300"/>
                </a:solidFill>
                <a:latin typeface="Arial"/>
              </a:rPr>
              <a:t>Laufende Rechnungen 2001 - 2007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3284640"/>
          <a:ext cx="2890800" cy="214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284640"/>
                    <a:ext cx="28908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25760"/>
          <a:ext cx="7240680" cy="444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25760"/>
                    <a:ext cx="724068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4CC9-2196-46B1-933B-0D4BCECF9D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3300"/>
                </a:solidFill>
                <a:latin typeface="Arial"/>
              </a:rPr>
              <a:t>Steuereinnahmen - Steuerfu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9880" y="1819440"/>
          <a:ext cx="719604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819440"/>
                    <a:ext cx="719604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8532-D326-4C48-B026-9C7E974C32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0:58Z</dcterms:created>
  <dc:creator>Walter Widmer</dc:creator>
  <dc:description/>
  <dc:language>en-US</dc:language>
  <cp:lastModifiedBy>Martina</cp:lastModifiedBy>
  <cp:lastPrinted>2003-09-16T13:25:20Z</cp:lastPrinted>
  <dcterms:modified xsi:type="dcterms:W3CDTF">2006-12-07T07:22:35Z</dcterms:modified>
  <cp:revision>71</cp:revision>
  <dc:subject>Budget 2006</dc:subject>
  <dc:title>Gemeindeversammlung 23.11.2005</dc:title>
</cp:coreProperties>
</file>