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0BA69-F56D-491F-A22C-0A7B1575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5AC2F-F975-4AB0-9807-6118385E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FF0BD-E2A3-40B6-80A1-6FA10FE6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62A4F-9DBA-4CBD-9D5A-0282159C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7167-502D-430B-BC94-7B064D8D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C40C-07DE-4CB9-BB61-F2699DDC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4D73-363D-4B8F-B7F9-FA9B0751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730E-696A-4412-BAE2-8D9C88FF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8894-8417-4651-9484-6788D812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9A12-DE5C-49A1-A089-1E3FE69D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62E0-09DF-4255-B7FC-5A09B4F6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4E49C-6BF9-4671-B6EB-318F4A71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E1EF-2B84-4D72-A603-8C991F4A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EE5D-5756-496B-AAB2-9615F29A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67F6-185B-45CA-85C0-D3EE584D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02F3-3A40-4B07-A433-31487246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07FC-DA82-4B1D-AC80-651D7351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7E54D-D6D2-45B6-9F87-CDAE0BCE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526A-1C41-4A3F-A68D-69DAA42C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35EAE-7669-43DB-A6C8-3421CD13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F50DC-8046-47EF-A305-48B96742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FF571-C951-4185-A0FF-B0522391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BD7E1-E093-45EA-9089-7CB310BA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DEF28-7B88-45B7-892E-2AED487A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066E-BE8E-4818-9AA0-26994BA5E559}" type="slidenum">
              <a:rPr b="0" lang="de-CH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45F9-0872-41E4-AF69-19645F92AC63}" type="datetime">
              <a:rPr b="0" lang="en-US" sz="1200" spc="-1" strike="noStrike">
                <a:solidFill>
                  <a:srgbClr val="0033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6418-C060-4EEE-A35B-2D52AC279BEF}" type="datetime">
              <a:rPr b="0" lang="en-US" sz="1200" spc="-1" strike="noStrike">
                <a:solidFill>
                  <a:srgbClr val="0033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E355-3E52-49F9-BFB2-3B2EAC273701}" type="slidenum">
              <a:rPr b="0" lang="de-CH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3300"/>
                </a:solidFill>
                <a:latin typeface="Arial"/>
              </a:rPr>
              <a:t>Übersicht Voranschlag 2007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359100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359100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Aufwand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Fr.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3‘222‘900.—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359100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Ertrag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Fr.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3‘418‘200.—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359100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359100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Mehrertrag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Fr.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195‘300.—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85C5A-2CCC-4622-9B02-2B4A459401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3300"/>
                </a:solidFill>
                <a:latin typeface="Arial"/>
              </a:rPr>
              <a:t>Mittelverwendung 2007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87280" y="1700280"/>
          <a:ext cx="727416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72741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EC637-DDE9-4476-9D71-72F2645B36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3300"/>
                </a:solidFill>
                <a:latin typeface="Arial"/>
              </a:rPr>
              <a:t>Mittelherkunft 2007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87280" y="1701720"/>
          <a:ext cx="7129800" cy="45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1720"/>
                    <a:ext cx="712980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C790C-8EC1-4E75-8745-2865D05348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3300"/>
                </a:solidFill>
                <a:latin typeface="Arial"/>
              </a:rPr>
              <a:t>Laufende Rechnungen 2001 - 2007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8360" y="3284640"/>
          <a:ext cx="2890800" cy="214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284640"/>
                    <a:ext cx="2890800" cy="21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09480" y="1625760"/>
          <a:ext cx="7240680" cy="4441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625760"/>
                    <a:ext cx="7240680" cy="44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4D1F-6FB0-4EA5-8507-B2AD5097E6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3300"/>
                </a:solidFill>
                <a:latin typeface="Arial"/>
              </a:rPr>
              <a:t>Steuereinnahmen - Steuerfus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9880" y="1819440"/>
          <a:ext cx="7196040" cy="39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819440"/>
                    <a:ext cx="7196040" cy="39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12EA9-C7A5-42F3-B594-4DE9DE5D00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50:58Z</dcterms:created>
  <dc:creator>Walter Widmer</dc:creator>
  <dc:description/>
  <dc:language>en-US</dc:language>
  <cp:lastModifiedBy>Martina</cp:lastModifiedBy>
  <cp:lastPrinted>2003-09-16T13:25:20Z</cp:lastPrinted>
  <dcterms:modified xsi:type="dcterms:W3CDTF">2006-12-07T07:22:35Z</dcterms:modified>
  <cp:revision>71</cp:revision>
  <dc:subject>Budget 2006</dc:subject>
  <dc:title>Gemeindeversammlung 23.11.2005</dc:title>
</cp:coreProperties>
</file>